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A6B89-18EF-46D9-ACE1-4739605839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5DD2C-6D4A-45DE-A20A-D70DA2AC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18A9B-82F5-4844-8CE5-A631DB2A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AB19B-67A8-4766-8008-298FC3F64C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7291D-9058-4FA4-841A-AE6E5EDA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7937E-AA38-4A96-878E-4CA744D3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66251-9A3B-4D04-9E7A-F3D9A341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05119-05AA-4737-8C94-68B5F8AF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2C420-6684-4B4E-8E35-3A2FB48C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3E0DE-9D1C-47E6-BA6A-76CD8832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0C972-7490-41DE-823F-87B254FF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481F0-EF2F-4370-A0F7-FD45CA23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1093-17B1-4074-9208-2E279736A2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idal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112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0600" y="616572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0600" y="616572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4600" y="6165720"/>
            <a:ext cx="8713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talk about the picture with your grou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discuss how tidal power generates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2920" y="6400800"/>
            <a:ext cx="88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y the animation and check if you described the process correctly in exercise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write sentenc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Fabio</cp:lastModifiedBy>
  <dcterms:modified xsi:type="dcterms:W3CDTF">2008-10-31T12:08:05Z</dcterms:modified>
  <cp:revision>29</cp:revision>
  <dc:subject/>
  <dc:title>  </dc:title>
</cp:coreProperties>
</file>